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654BA-F0E4-439A-8E54-BA95F2D9AC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75CDB-314A-4AD1-A8BF-3769FE1D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33013-1AC6-4827-8283-AA923BB0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8AAB3-CBB7-40C0-A6DE-FAAB3B5539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888B5-B311-4665-9014-DDF5E8B5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6A548-D46E-498A-A72F-45F9E4E7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451D-7312-41AC-B61F-AB0526B9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5B00-8CE0-4709-B0C7-C3BD2320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6DEC-5250-4952-B7F9-BED49EFD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BC7F4-4DFD-417E-9FB5-2C025DD4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2FF2B-53C4-4824-97CB-99211CF8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FC545-20C1-47DE-B0E2-6A4AB3C2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239F-E3EF-4863-9D74-F8AB69D6D58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2360" y="2205000"/>
            <a:ext cx="43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5013360"/>
            <a:ext cx="381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体位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F0E8-61F6-4242-808E-FC1DF16EEBB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81668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防或减轻痉挛和畸形的出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躯干和肢体保持在功能状态的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时变换体位有助于预防并发症的发生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294240" y="404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491A-91C7-4E9C-8BEC-20D7F007AE2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尽早进行体位摆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定时变换体位，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动作轻柔，保证患者安全；选择合适体位，避免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手、脚底不放置东西，预防足下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及时调整体位，保证患者舒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736960" y="4777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124000" y="2998440"/>
            <a:ext cx="61214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二、常见疾病体位摆放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013C-12A3-45E5-8120-F4ED6EACA2A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健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195640" y="2708280"/>
            <a:ext cx="4533840" cy="2725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D215-A7E0-454A-9946-45822EAD9E3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患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4591080" cy="2641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F16D-1E6F-4744-B362-193F2AA53FD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4572000" cy="3017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02D1-4E4E-40C0-8890-309FC45F200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4658040" cy="2967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2A3B-2323-4C1C-A131-480F077DCBD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Picture 4" descr="1"/>
          <p:cNvPicPr/>
          <p:nvPr/>
        </p:nvPicPr>
        <p:blipFill>
          <a:blip r:embed="rId1"/>
          <a:stretch/>
        </p:blipFill>
        <p:spPr>
          <a:xfrm>
            <a:off x="1547640" y="2708280"/>
            <a:ext cx="5905800" cy="30448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BD18-A8E3-46B7-A4C0-41030615C13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4608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功能位： 肩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外展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无内、外旋）；肘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前臂中间位你（无旋前、旋后）；腕关节背伸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并稍内收（即稍尺侧屈）；各掌指关节和指间关节稍屈曲，由示指至小指屈曲度有规律地递增；拇指在对掌中间位（即在掌平面前方，其掌指关节半屈曲，指间关节轻微屈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01BA-99F8-4B87-90B6-F54E1C31A05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781704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功能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髋伸直，无内、外旋，膝稍屈曲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~3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踝处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间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ts val="4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体位摆放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见疾病体位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52360" y="1268280"/>
          <a:ext cx="8783640" cy="5480280"/>
        </p:xfrm>
        <a:graphic>
          <a:graphicData uri="http://schemas.openxmlformats.org/drawingml/2006/table">
            <a:tbl>
              <a:tblPr/>
              <a:tblGrid>
                <a:gridCol w="1282680"/>
                <a:gridCol w="3757680"/>
                <a:gridCol w="3743280"/>
              </a:tblGrid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烧伤部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可能出现的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抗挛缩体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头面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眼睑外翻，小口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戴面具，使用开口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颈前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去枕，颈部轻度伸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上提、后撤、内收、内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关节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~10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并外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前臂旋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关节处于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过伸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，掌弓变平（鹰爪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腕关节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及对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，腕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侧凸，脊柱后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、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关节中立伸展位：如大腿内侧烧伤，则髋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15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关节伸直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足趾屈并内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关节背屈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位，防止跟腱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53"/>
          <p:cNvSpPr/>
          <p:nvPr/>
        </p:nvSpPr>
        <p:spPr>
          <a:xfrm>
            <a:off x="5324400" y="404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烧伤患者抗挛缩体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3E05-363F-442F-8CBF-A385523E5A8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71320" y="1844280"/>
            <a:ext cx="8103960" cy="4032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体位、良肢位、功能位、烧伤患者抗挛缩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注意事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常见疾病体位摆放方法  脑损伤患者的体位摆放（健侧卧位、患侧卧位、仰卧位）；脊髓损伤患者的体位摆放（仰卧位、侧卧位）；骨关节疾病患者的体位摆放（上肢功能位、下肢功能位）；烧伤患者体位摆放（身体各部位抗挛缩体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4515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836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岁，脑梗塞后左侧偏瘫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天，查体：神志清楚，生命体征稳定；左侧肌张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肌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不能自主翻身及体位移动，根据患者症状体征，早期进行康复护理介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请为患者进行良肢位摆放，并向患者及家属讲解其目的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E194-58E2-4F00-9A28-AB59064568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628640"/>
            <a:ext cx="806436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体位、良肢位、功能位、抗挛缩体位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摆放的目的、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不同疾病体位摆放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针对不同疾病给予正确的体位摆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123640" y="2997000"/>
            <a:ext cx="52563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一、体位摆放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DDB1-2573-4E4A-8810-A5F4BBC53A9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body position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）是指人体所处的某种姿势或某种位置。在临床上是指根据患者病情，针对护理、治疗或者康复需要所采取的治疗性姿势或身体所摆放的位置。康复护理中常用的体位摆放技术有良肢位、功能位、烧伤患者抗痉挛体位的摆放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定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E4F9-F552-4DFB-BC80-001E329A758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618920" y="1917360"/>
            <a:ext cx="594684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良肢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功能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烧伤患者抗挛缩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见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BB4E-E369-46BD-8C0B-2623727AD34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234936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肢位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为预防和减轻痉挛姿势的出现，保护肩关节，早期诱发分离运动而设计的一种治疗体位。在脑损伤患者的康复护理中，良肢位摆放具有防止畸形，减轻症状，使躯干和肢体保持在功能状态的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547640" y="1486080"/>
            <a:ext cx="22622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良肢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3726-24DF-4396-9E4A-8A8FD005D8B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2000" y="2133360"/>
            <a:ext cx="83581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位  指当肌肉、关节功能不能或尚未恢复时，必须使肢体处于发挥最佳功能活动的体位。这种体位就称为功能位，临床上常采用绷带、石膏、矫形支具、系列夹板等固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1542960" cy="654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功能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9046-0835-4C49-AED2-D4EF561531B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6720" y="2420640"/>
            <a:ext cx="83584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烧伤患者的抗挛缩体位  指烧伤患者应保持的正确体位，即应与烧伤部位软组织收缩方面相反的体位。这种体位有助于预防挛缩，因此在卧床期间应始终保持正确的体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763280" y="1557360"/>
            <a:ext cx="22338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521960" y="404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烧伤患者的抗挛缩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26:32Z</dcterms:modified>
  <cp:revision>1</cp:revision>
  <dc:subject/>
  <dc:title>   第五章  康复护理技术</dc:title>
</cp:coreProperties>
</file>